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5400-1DF4-4543-931B-7DE64331F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7746-CC5D-4AA6-BF9C-1DDC3758E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3B34-4DC6-4D99-ADC4-13E1931F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A5C-E2D7-421B-BEAF-275500DE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C71-94E7-4129-ACE6-7119C4F1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7AC-137E-4BE7-9E3E-4845CAB29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EA6F-453D-423B-9BB3-916B7FDC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30DE-5D8E-4610-926B-3BD0FCD5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428-07F5-4B5F-8E94-E5E361DC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EE6-287F-4FBB-BA8F-5CCE0A64D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79F2-17B0-4CBE-A477-7DF6D916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0CA-24EA-491F-A450-A8952FA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0CD5-0A0E-4BBD-B6D3-F1454CBA3019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05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bujando Polígonos con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4723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ema Nº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tortuga1"/>
          <p:cNvPicPr/>
          <p:nvPr/>
        </p:nvPicPr>
        <p:blipFill>
          <a:blip r:embed="rId1"/>
          <a:stretch/>
        </p:blipFill>
        <p:spPr>
          <a:xfrm>
            <a:off x="3635280" y="2781360"/>
            <a:ext cx="1238400" cy="1114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5"/>
          <p:cNvSpPr/>
          <p:nvPr/>
        </p:nvSpPr>
        <p:spPr>
          <a:xfrm>
            <a:off x="2700360" y="1628640"/>
            <a:ext cx="863640" cy="72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3492360" y="476280"/>
            <a:ext cx="1441440" cy="719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8"/>
          <p:cNvSpPr/>
          <p:nvPr/>
        </p:nvSpPr>
        <p:spPr>
          <a:xfrm>
            <a:off x="4932360" y="1484280"/>
            <a:ext cx="1008000" cy="1008000"/>
          </a:xfrm>
          <a:prstGeom prst="diamond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564000" y="1197000"/>
            <a:ext cx="1368360" cy="14400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Line 2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olución al Problema Plante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8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4716360" y="2492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 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7596360" y="335772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5867280" y="6093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68360" y="1341360"/>
            <a:ext cx="25210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mo Resol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ar a 180 el ángulo interior cono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180-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caso todos los ángulos exteriores: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den 90º. Por lo tanto todos los giros que debe realizar la tortuga son de 9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rc 14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rc 15"/>
          <p:cNvSpPr/>
          <p:nvPr/>
        </p:nvSpPr>
        <p:spPr>
          <a:xfrm>
            <a:off x="4356000" y="5589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3059280" y="501336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9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rc 19"/>
          <p:cNvSpPr/>
          <p:nvPr/>
        </p:nvSpPr>
        <p:spPr>
          <a:xfrm>
            <a:off x="4356000" y="2708280"/>
            <a:ext cx="503280" cy="433440"/>
          </a:xfrm>
          <a:custGeom>
            <a:avLst/>
            <a:gdLst>
              <a:gd name="textAreaLeft" fmla="*/ 0 w 503280"/>
              <a:gd name="textAreaRight" fmla="*/ 503640 w 503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20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>
              <a:gd name="textAreaLeft" fmla="*/ 0 w 574560"/>
              <a:gd name="textAreaRight" fmla="*/ 574920 w 5745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21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22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4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5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6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WordArt 27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Primitivas para dibujar el Cuadr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395280" y="692280"/>
          <a:ext cx="8229600" cy="3384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on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u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70" name="Group 11"/>
          <p:cNvGrpSpPr/>
          <p:nvPr/>
        </p:nvGrpSpPr>
        <p:grpSpPr>
          <a:xfrm>
            <a:off x="5219640" y="1197000"/>
            <a:ext cx="2592360" cy="2376360"/>
            <a:chOff x="5219640" y="1197000"/>
            <a:chExt cx="2592360" cy="2376360"/>
          </a:xfrm>
        </p:grpSpPr>
        <p:sp>
          <p:nvSpPr>
            <p:cNvPr id="171" name="Rectangle 12"/>
            <p:cNvSpPr/>
            <p:nvPr/>
          </p:nvSpPr>
          <p:spPr>
            <a:xfrm>
              <a:off x="5435640" y="1197000"/>
              <a:ext cx="2376360" cy="237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AutoShape 13"/>
            <p:cNvSpPr/>
            <p:nvPr/>
          </p:nvSpPr>
          <p:spPr>
            <a:xfrm>
              <a:off x="5219640" y="3285720"/>
              <a:ext cx="503280" cy="28728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14"/>
          <p:cNvSpPr/>
          <p:nvPr/>
        </p:nvSpPr>
        <p:spPr>
          <a:xfrm>
            <a:off x="468360" y="4076640"/>
            <a:ext cx="82072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l cuadrado es un polígono regular de 4 lados, debemos repetir 4 veces las mismas instrucciones, es decir: AV 100, GD 9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 forma de hacer lo mismo es: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ITE 4 [AV 100 GD 9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primitiva REPITE, permite repetir n veces (en este caso 4) las instrucciones que están entre los paréntesis cuadr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emos la pantalla con BP y probemos con esta nueva instr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15"/>
          <p:cNvSpPr/>
          <p:nvPr/>
        </p:nvSpPr>
        <p:spPr>
          <a:xfrm>
            <a:off x="6048360" y="6399360"/>
            <a:ext cx="3095640" cy="458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WordArt 16"/>
          <p:cNvSpPr txBox="1"/>
          <p:nvPr/>
        </p:nvSpPr>
        <p:spPr>
          <a:xfrm>
            <a:off x="6192720" y="6497640"/>
            <a:ext cx="1224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Índice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WordArt 17"/>
          <p:cNvSpPr txBox="1"/>
          <p:nvPr/>
        </p:nvSpPr>
        <p:spPr>
          <a:xfrm>
            <a:off x="7777080" y="6497640"/>
            <a:ext cx="1224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ontinuar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calculo para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WordArt 5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81" name="AutoShape 6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rc 7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rc 11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rc 12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13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5003640" y="227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rc 16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6659640" y="508464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8"/>
          <p:cNvSpPr/>
          <p:nvPr/>
        </p:nvSpPr>
        <p:spPr>
          <a:xfrm>
            <a:off x="2700360" y="5516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9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rc 20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1"/>
          <p:cNvSpPr/>
          <p:nvPr/>
        </p:nvSpPr>
        <p:spPr>
          <a:xfrm>
            <a:off x="395280" y="2060640"/>
            <a:ext cx="2521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ociendo los ángulos interiores de un polígono (en este caso todos miden 60º). Determina la medida de los ángulos exteriores deno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WordArt 25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3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"/>
          <p:cNvSpPr/>
          <p:nvPr/>
        </p:nvSpPr>
        <p:spPr>
          <a:xfrm flipV="1">
            <a:off x="428472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WordArt 5"/>
          <p:cNvSpPr txBox="1"/>
          <p:nvPr/>
        </p:nvSpPr>
        <p:spPr>
          <a:xfrm>
            <a:off x="3851280" y="1413000"/>
            <a:ext cx="12924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1" name="AutoShape 6"/>
          <p:cNvSpPr/>
          <p:nvPr/>
        </p:nvSpPr>
        <p:spPr>
          <a:xfrm rot="19628400">
            <a:off x="3420720" y="2781360"/>
            <a:ext cx="3095640" cy="2376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7"/>
          <p:cNvSpPr/>
          <p:nvPr/>
        </p:nvSpPr>
        <p:spPr>
          <a:xfrm flipV="1" rot="12379200">
            <a:off x="4284000" y="530028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284720" y="328464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5867280" y="4005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356000" y="501336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6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1"/>
          <p:cNvSpPr/>
          <p:nvPr/>
        </p:nvSpPr>
        <p:spPr>
          <a:xfrm flipV="1" rot="5667000">
            <a:off x="6434640" y="40125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12"/>
          <p:cNvSpPr/>
          <p:nvPr/>
        </p:nvSpPr>
        <p:spPr>
          <a:xfrm flipV="1" rot="19084800">
            <a:off x="4284360" y="2997360"/>
            <a:ext cx="377640" cy="360360"/>
          </a:xfrm>
          <a:custGeom>
            <a:avLst/>
            <a:gdLst>
              <a:gd name="textAreaLeft" fmla="*/ 0 w 377640"/>
              <a:gd name="textAreaRight" fmla="*/ 378000 w 37764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</a:path>
              <a:path stroke="0" w="37215" h="21600">
                <a:moveTo>
                  <a:pt x="0" y="11887"/>
                </a:moveTo>
                <a:cubicBezTo>
                  <a:pt x="3669" y="4598"/>
                  <a:pt x="11132" y="-1"/>
                  <a:pt x="19293" y="0"/>
                </a:cubicBezTo>
                <a:cubicBezTo>
                  <a:pt x="26482" y="0"/>
                  <a:pt x="33201" y="3577"/>
                  <a:pt x="37214" y="9543"/>
                </a:cubicBezTo>
                <a:lnTo>
                  <a:pt x="19293" y="21600"/>
                </a:lnTo>
                <a:lnTo>
                  <a:pt x="0" y="1188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rc 13"/>
          <p:cNvSpPr/>
          <p:nvPr/>
        </p:nvSpPr>
        <p:spPr>
          <a:xfrm>
            <a:off x="4295880" y="2349360"/>
            <a:ext cx="1068120" cy="1073160"/>
          </a:xfrm>
          <a:custGeom>
            <a:avLst/>
            <a:gdLst>
              <a:gd name="textAreaLeft" fmla="*/ 0 w 1068120"/>
              <a:gd name="textAreaRight" fmla="*/ 1068480 w 106812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</a:path>
              <a:path stroke="0" w="22901" h="29314">
                <a:moveTo>
                  <a:pt x="0" y="39"/>
                </a:moveTo>
                <a:cubicBezTo>
                  <a:pt x="433" y="13"/>
                  <a:pt x="867" y="-1"/>
                  <a:pt x="1301" y="0"/>
                </a:cubicBezTo>
                <a:cubicBezTo>
                  <a:pt x="13230" y="0"/>
                  <a:pt x="22901" y="9670"/>
                  <a:pt x="22901" y="21600"/>
                </a:cubicBezTo>
                <a:cubicBezTo>
                  <a:pt x="22901" y="24236"/>
                  <a:pt x="22418" y="26851"/>
                  <a:pt x="21476" y="29313"/>
                </a:cubicBezTo>
                <a:lnTo>
                  <a:pt x="1301" y="21600"/>
                </a:lnTo>
                <a:lnTo>
                  <a:pt x="0" y="3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4"/>
          <p:cNvSpPr/>
          <p:nvPr/>
        </p:nvSpPr>
        <p:spPr>
          <a:xfrm>
            <a:off x="5003640" y="2276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4284720" y="2924280"/>
            <a:ext cx="3600360" cy="158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16"/>
          <p:cNvSpPr/>
          <p:nvPr/>
        </p:nvSpPr>
        <p:spPr>
          <a:xfrm rot="7493400">
            <a:off x="6198480" y="4011120"/>
            <a:ext cx="1222560" cy="1073160"/>
          </a:xfrm>
          <a:custGeom>
            <a:avLst/>
            <a:gdLst>
              <a:gd name="textAreaLeft" fmla="*/ 0 w 1222560"/>
              <a:gd name="textAreaRight" fmla="*/ 1222920 w 12225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</a:path>
              <a:path stroke="0" w="26186" h="29314">
                <a:moveTo>
                  <a:pt x="0" y="492"/>
                </a:moveTo>
                <a:cubicBezTo>
                  <a:pt x="1506" y="165"/>
                  <a:pt x="3044" y="-1"/>
                  <a:pt x="4586" y="0"/>
                </a:cubicBezTo>
                <a:cubicBezTo>
                  <a:pt x="16515" y="0"/>
                  <a:pt x="26186" y="9670"/>
                  <a:pt x="26186" y="21600"/>
                </a:cubicBezTo>
                <a:cubicBezTo>
                  <a:pt x="26186" y="24236"/>
                  <a:pt x="25703" y="26851"/>
                  <a:pt x="24761" y="29313"/>
                </a:cubicBezTo>
                <a:lnTo>
                  <a:pt x="4586" y="21600"/>
                </a:lnTo>
                <a:lnTo>
                  <a:pt x="0" y="492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6659640" y="508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2843280" y="5084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=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9"/>
          <p:cNvSpPr/>
          <p:nvPr/>
        </p:nvSpPr>
        <p:spPr>
          <a:xfrm flipH="1">
            <a:off x="3058920" y="4149720"/>
            <a:ext cx="3889080" cy="25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rc 20"/>
          <p:cNvSpPr/>
          <p:nvPr/>
        </p:nvSpPr>
        <p:spPr>
          <a:xfrm rot="15208800">
            <a:off x="3182760" y="4993560"/>
            <a:ext cx="1476360" cy="1073160"/>
          </a:xfrm>
          <a:custGeom>
            <a:avLst/>
            <a:gdLst>
              <a:gd name="textAreaLeft" fmla="*/ 0 w 1476360"/>
              <a:gd name="textAreaRight" fmla="*/ 1476720 w 1476360"/>
              <a:gd name="textAreaTop" fmla="*/ 0 h 1073160"/>
              <a:gd name="textAreaBottom" fmla="*/ 1073520 h 1073160"/>
            </a:gdLst>
            <a:ahLst/>
            <a:rect l="textAreaLeft" t="textAreaTop" r="textAreaRight" b="textAreaBottom"/>
            <a:pathLst>
              <a:path fill="none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</a:path>
              <a:path stroke="0" w="31620" h="29314">
                <a:moveTo>
                  <a:pt x="-1" y="2464"/>
                </a:moveTo>
                <a:cubicBezTo>
                  <a:pt x="3091" y="845"/>
                  <a:pt x="6529" y="-1"/>
                  <a:pt x="10020" y="0"/>
                </a:cubicBezTo>
                <a:cubicBezTo>
                  <a:pt x="21949" y="0"/>
                  <a:pt x="31620" y="9670"/>
                  <a:pt x="31620" y="21600"/>
                </a:cubicBezTo>
                <a:cubicBezTo>
                  <a:pt x="31620" y="24236"/>
                  <a:pt x="31137" y="26851"/>
                  <a:pt x="30195" y="29313"/>
                </a:cubicBezTo>
                <a:lnTo>
                  <a:pt x="10020" y="21600"/>
                </a:lnTo>
                <a:lnTo>
                  <a:pt x="-1" y="2464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1"/>
          <p:cNvSpPr/>
          <p:nvPr/>
        </p:nvSpPr>
        <p:spPr>
          <a:xfrm>
            <a:off x="324000" y="1413000"/>
            <a:ext cx="252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mo Resolver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ar a 180 el ángulo interior cono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=180-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1=1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ste caso todos los ángulos exteriores: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miden 120º. Por lo tanto todos los giros que debe realizar la tortuga son de 12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WordArt 22"/>
          <p:cNvSpPr txBox="1"/>
          <p:nvPr/>
        </p:nvSpPr>
        <p:spPr>
          <a:xfrm>
            <a:off x="378000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olución al Problema Plante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rimitivas para dibujar el Triángu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95280" y="907920"/>
          <a:ext cx="8229600" cy="3384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38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cione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 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buj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1" name="Text Box 11"/>
          <p:cNvSpPr/>
          <p:nvPr/>
        </p:nvSpPr>
        <p:spPr>
          <a:xfrm>
            <a:off x="395280" y="4581360"/>
            <a:ext cx="82072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o este triángulo es un polígono regular de 3 lados iguales y tres ángulo iguales, debemos repetir 3 veces las mismas instrucciones, es decir: AV 100, GD 12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ra forma de hacer lo mismo es: 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PITE 3 [AV 100 GD 1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emos la pantalla con BP y probemos con esta nueva instruc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2"/>
          <p:cNvSpPr/>
          <p:nvPr/>
        </p:nvSpPr>
        <p:spPr>
          <a:xfrm rot="5400000">
            <a:off x="5759280" y="1593720"/>
            <a:ext cx="2089080" cy="158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3"/>
          <p:cNvSpPr/>
          <p:nvPr/>
        </p:nvSpPr>
        <p:spPr>
          <a:xfrm>
            <a:off x="5796000" y="3141720"/>
            <a:ext cx="503280" cy="287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47640" y="2599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Qué está sucediendo?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¿Cuál es la razó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457200" y="1600200"/>
          <a:ext cx="8229600" cy="30528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05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Exteriores del Triangul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memos los Ángulos Exteriores del Cuadrado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α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γ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AutoShape 11"/>
          <p:cNvSpPr/>
          <p:nvPr/>
        </p:nvSpPr>
        <p:spPr>
          <a:xfrm rot="16200000">
            <a:off x="2339640" y="2276280"/>
            <a:ext cx="503280" cy="2808360"/>
          </a:xfrm>
          <a:custGeom>
            <a:avLst/>
            <a:gdLst>
              <a:gd name="textAreaLeft" fmla="*/ 321480 w 503280"/>
              <a:gd name="textAreaRight" fmla="*/ 503640 w 5032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12"/>
          <p:cNvSpPr/>
          <p:nvPr/>
        </p:nvSpPr>
        <p:spPr>
          <a:xfrm rot="16200000">
            <a:off x="6300720" y="2060640"/>
            <a:ext cx="503280" cy="3240000"/>
          </a:xfrm>
          <a:custGeom>
            <a:avLst/>
            <a:gdLst>
              <a:gd name="textAreaLeft" fmla="*/ 321480 w 503280"/>
              <a:gd name="textAreaRight" fmla="*/ 503640 w 50328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1835280" y="393228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5796000" y="39322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79280" y="4869000"/>
            <a:ext cx="8713800" cy="15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Generalizando la forma de calcular el ángulo de gir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puede establecer que el ángulo de giro para cualquier polígono regula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360 / nº de l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AutoShape 6"/>
          <p:cNvSpPr/>
          <p:nvPr/>
        </p:nvSpPr>
        <p:spPr>
          <a:xfrm>
            <a:off x="395280" y="1557360"/>
            <a:ext cx="1944720" cy="2087640"/>
          </a:xfrm>
          <a:prstGeom prst="cloudCallout">
            <a:avLst>
              <a:gd name="adj1" fmla="val -5671"/>
              <a:gd name="adj2" fmla="val 91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2"/>
          <p:cNvSpPr/>
          <p:nvPr/>
        </p:nvSpPr>
        <p:spPr>
          <a:xfrm>
            <a:off x="2556000" y="1916280"/>
            <a:ext cx="6264000" cy="3816360"/>
          </a:xfrm>
          <a:prstGeom prst="wedgeRoundRectCallout">
            <a:avLst>
              <a:gd name="adj1" fmla="val -67180"/>
              <a:gd name="adj2" fmla="val 2483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ara un polígono de 5 lados, es decir, un Pentágono el cálculo sería el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Nº de lados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360 /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Ángulo de Giro = 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"/>
          <p:cNvSpPr txBox="1"/>
          <p:nvPr/>
        </p:nvSpPr>
        <p:spPr>
          <a:xfrm>
            <a:off x="1692360" y="33336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¡¡¡Aplicando la Fórmula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34" name="Picture 4" descr="turtle-logo"/>
          <p:cNvPicPr/>
          <p:nvPr/>
        </p:nvPicPr>
        <p:blipFill>
          <a:blip r:embed="rId1"/>
          <a:stretch/>
        </p:blipFill>
        <p:spPr>
          <a:xfrm>
            <a:off x="539640" y="4581360"/>
            <a:ext cx="1944720" cy="208764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5"/>
          <p:cNvSpPr/>
          <p:nvPr/>
        </p:nvSpPr>
        <p:spPr>
          <a:xfrm>
            <a:off x="826920" y="2060640"/>
            <a:ext cx="936720" cy="1008000"/>
          </a:xfrm>
          <a:prstGeom prst="pentag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31" descr="tortuga_logo"/>
          <p:cNvPicPr/>
          <p:nvPr/>
        </p:nvPicPr>
        <p:blipFill>
          <a:blip r:embed="rId1"/>
          <a:stretch/>
        </p:blipFill>
        <p:spPr>
          <a:xfrm>
            <a:off x="5003640" y="3141720"/>
            <a:ext cx="3673800" cy="313668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38"/>
          <p:cNvSpPr/>
          <p:nvPr/>
        </p:nvSpPr>
        <p:spPr>
          <a:xfrm>
            <a:off x="928800" y="857160"/>
            <a:ext cx="4390920" cy="1513080"/>
          </a:xfrm>
          <a:prstGeom prst="wedgeEllipseCallout">
            <a:avLst>
              <a:gd name="adj1" fmla="val 66259"/>
              <a:gd name="adj2" fmla="val 993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hora, en la computadora y utilizando el Lenguaje Logo, desarrolla los ejercicios propuestos en la Guía Nº 2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nejar la Interfaz de Trabajo del Lenguaje Lo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tilizar y aplicar las principales instrucciones o Primitivas que permiten mover y crear dibujos con la tortu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conocer y aplicar la formula de cálculo de los ángulos de giro exter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razar diversos polígonos a través del Lenguaje Logo, simplificando las instrucciones repeti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0560" y="274320"/>
            <a:ext cx="66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cordando las Primitiv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5640" y="1557360"/>
          <a:ext cx="7869240" cy="5029200"/>
        </p:xfrm>
        <a:graphic>
          <a:graphicData uri="http://schemas.openxmlformats.org/drawingml/2006/table">
            <a:tbl>
              <a:tblPr/>
              <a:tblGrid>
                <a:gridCol w="2952720"/>
                <a:gridCol w="4916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it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an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roc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ar Derec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rar Izquier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rrar Panta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e Lá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ja Lá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ar Goma para Borr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LAP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ner Lápiz y desactivar GO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E n [ primitivas 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ite n v veces las primitivas que están en paréntesis cuadra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ultar Tortu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rar Tortu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Picture 51" descr="tortuga_logo"/>
          <p:cNvPicPr/>
          <p:nvPr/>
        </p:nvPicPr>
        <p:blipFill>
          <a:blip r:embed="rId1"/>
          <a:stretch/>
        </p:blipFill>
        <p:spPr>
          <a:xfrm>
            <a:off x="0" y="189000"/>
            <a:ext cx="1828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cordemos los Polígo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468360" y="765000"/>
            <a:ext cx="792000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polígono es una figura geométrica plana limitada por al menos tres segmentos rectos consecutivos no alineados, llamad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ambién podemos decir que los polígonos son figuras cerradas, formadas por varios segmentos de líneas, a las que llamamos l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611280" y="2276640"/>
            <a:ext cx="82296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Ej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979640" y="3213000"/>
            <a:ext cx="10796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611280" y="3284640"/>
            <a:ext cx="936360" cy="8650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508720" y="3068640"/>
            <a:ext cx="1224000" cy="1152360"/>
          </a:xfrm>
          <a:prstGeom prst="hexagon">
            <a:avLst>
              <a:gd name="adj" fmla="val 26554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3635280" y="2997360"/>
            <a:ext cx="1368360" cy="122364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9"/>
          <p:cNvSpPr/>
          <p:nvPr/>
        </p:nvSpPr>
        <p:spPr>
          <a:xfrm>
            <a:off x="1332000" y="5300640"/>
            <a:ext cx="1655640" cy="1009800"/>
          </a:xfrm>
          <a:prstGeom prst="parallelogram">
            <a:avLst>
              <a:gd name="adj" fmla="val 409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0"/>
          <p:cNvSpPr/>
          <p:nvPr/>
        </p:nvSpPr>
        <p:spPr>
          <a:xfrm>
            <a:off x="3995640" y="5157720"/>
            <a:ext cx="1368360" cy="86364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180000 h 863640"/>
              <a:gd name="textAreaBottom" fmla="*/ 68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1"/>
          <p:cNvSpPr/>
          <p:nvPr/>
        </p:nvSpPr>
        <p:spPr>
          <a:xfrm>
            <a:off x="7164360" y="2997360"/>
            <a:ext cx="1441440" cy="13683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2"/>
          <p:cNvSpPr/>
          <p:nvPr/>
        </p:nvSpPr>
        <p:spPr>
          <a:xfrm>
            <a:off x="6300720" y="5084640"/>
            <a:ext cx="1656000" cy="122400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w="1043" h="771">
                <a:moveTo>
                  <a:pt x="0" y="0"/>
                </a:moveTo>
                <a:lnTo>
                  <a:pt x="1043" y="0"/>
                </a:lnTo>
                <a:lnTo>
                  <a:pt x="1043" y="726"/>
                </a:lnTo>
                <a:lnTo>
                  <a:pt x="725" y="408"/>
                </a:lnTo>
                <a:lnTo>
                  <a:pt x="0" y="771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Elementos de los Polígo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68360" y="765000"/>
            <a:ext cx="792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elementos de un polígono son: Lados, Vértices, Ángulos, Diagonales. Veamos algunos ejempl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"/>
          <p:cNvSpPr/>
          <p:nvPr/>
        </p:nvSpPr>
        <p:spPr>
          <a:xfrm>
            <a:off x="6300720" y="2492280"/>
            <a:ext cx="1295640" cy="10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268360" y="2276640"/>
            <a:ext cx="1295640" cy="1081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1836720" y="1700280"/>
            <a:ext cx="57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a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9" name="WordArt 7"/>
          <p:cNvSpPr txBox="1"/>
          <p:nvPr/>
        </p:nvSpPr>
        <p:spPr>
          <a:xfrm>
            <a:off x="1619280" y="3932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értic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7237440" y="4149720"/>
            <a:ext cx="647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6300720" y="2492280"/>
            <a:ext cx="1297080" cy="10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rc 10"/>
          <p:cNvSpPr/>
          <p:nvPr/>
        </p:nvSpPr>
        <p:spPr>
          <a:xfrm>
            <a:off x="2411280" y="3139920"/>
            <a:ext cx="144720" cy="216000"/>
          </a:xfrm>
          <a:custGeom>
            <a:avLst/>
            <a:gdLst>
              <a:gd name="textAreaLeft" fmla="*/ 0 w 144720"/>
              <a:gd name="textAreaRight" fmla="*/ 145080 w 144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11"/>
          <p:cNvSpPr/>
          <p:nvPr/>
        </p:nvSpPr>
        <p:spPr>
          <a:xfrm>
            <a:off x="6300720" y="3357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12"/>
          <p:cNvSpPr txBox="1"/>
          <p:nvPr/>
        </p:nvSpPr>
        <p:spPr>
          <a:xfrm>
            <a:off x="5869080" y="4149720"/>
            <a:ext cx="6476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Vértic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5" name="WordArt 13"/>
          <p:cNvSpPr txBox="1"/>
          <p:nvPr/>
        </p:nvSpPr>
        <p:spPr>
          <a:xfrm>
            <a:off x="7164360" y="1700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Diagonal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6" name="WordArt 14"/>
          <p:cNvSpPr txBox="1"/>
          <p:nvPr/>
        </p:nvSpPr>
        <p:spPr>
          <a:xfrm>
            <a:off x="2916360" y="3932280"/>
            <a:ext cx="64764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7" name="WordArt 15"/>
          <p:cNvSpPr txBox="1"/>
          <p:nvPr/>
        </p:nvSpPr>
        <p:spPr>
          <a:xfrm>
            <a:off x="5076720" y="1916280"/>
            <a:ext cx="5763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La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8" name="Line 16"/>
          <p:cNvSpPr/>
          <p:nvPr/>
        </p:nvSpPr>
        <p:spPr>
          <a:xfrm>
            <a:off x="2124000" y="1989000"/>
            <a:ext cx="503280" cy="719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5508720" y="2205000"/>
            <a:ext cx="720720" cy="71928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 flipH="1" flipV="1">
            <a:off x="2411280" y="3284640"/>
            <a:ext cx="865440" cy="57600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 flipH="1" flipV="1">
            <a:off x="6372000" y="3500280"/>
            <a:ext cx="1081080" cy="6494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V="1">
            <a:off x="1908000" y="3355920"/>
            <a:ext cx="360360" cy="504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 flipV="1">
            <a:off x="6156360" y="3644640"/>
            <a:ext cx="144360" cy="43164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 flipH="1">
            <a:off x="6948000" y="2060640"/>
            <a:ext cx="576360" cy="936720"/>
          </a:xfrm>
          <a:prstGeom prst="line">
            <a:avLst/>
          </a:prstGeom>
          <a:ln w="93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3"/>
          <p:cNvSpPr/>
          <p:nvPr/>
        </p:nvSpPr>
        <p:spPr>
          <a:xfrm>
            <a:off x="395280" y="4797360"/>
            <a:ext cx="79930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lados son segmentos que forman el polígo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vértices son cada uno de los puntos en que se forman l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ángulos del polígono son los ángulos que forman los l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diagonales son los segmentos que unen dos vértices no consecu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os Polígonos según el número de l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4038480" cy="4675320"/>
        </p:xfrm>
        <a:graphic>
          <a:graphicData uri="http://schemas.openxmlformats.org/drawingml/2006/table">
            <a:tbl>
              <a:tblPr/>
              <a:tblGrid>
                <a:gridCol w="917640"/>
                <a:gridCol w="1849320"/>
                <a:gridCol w="12715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ng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driláte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AutoShape 29"/>
          <p:cNvSpPr/>
          <p:nvPr/>
        </p:nvSpPr>
        <p:spPr>
          <a:xfrm>
            <a:off x="3419640" y="2349360"/>
            <a:ext cx="792000" cy="719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0"/>
          <p:cNvSpPr/>
          <p:nvPr/>
        </p:nvSpPr>
        <p:spPr>
          <a:xfrm>
            <a:off x="3419640" y="3357720"/>
            <a:ext cx="647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1"/>
          <p:cNvSpPr/>
          <p:nvPr/>
        </p:nvSpPr>
        <p:spPr>
          <a:xfrm>
            <a:off x="3419640" y="4292640"/>
            <a:ext cx="647640" cy="72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2"/>
          <p:cNvSpPr/>
          <p:nvPr/>
        </p:nvSpPr>
        <p:spPr>
          <a:xfrm>
            <a:off x="3348000" y="5373720"/>
            <a:ext cx="863640" cy="719280"/>
          </a:xfrm>
          <a:prstGeom prst="hexagon">
            <a:avLst>
              <a:gd name="adj" fmla="val 30018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788000" y="1628640"/>
          <a:ext cx="4038480" cy="4638960"/>
        </p:xfrm>
        <a:graphic>
          <a:graphicData uri="http://schemas.openxmlformats.org/drawingml/2006/table">
            <a:tbl>
              <a:tblPr/>
              <a:tblGrid>
                <a:gridCol w="917640"/>
                <a:gridCol w="1849320"/>
                <a:gridCol w="127152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 L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g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p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08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ágo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55" descr="heptagono"/>
          <p:cNvPicPr/>
          <p:nvPr/>
        </p:nvPicPr>
        <p:blipFill>
          <a:blip r:embed="rId1"/>
          <a:stretch/>
        </p:blipFill>
        <p:spPr>
          <a:xfrm>
            <a:off x="7740720" y="2349360"/>
            <a:ext cx="934920" cy="91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6" descr="octagono"/>
          <p:cNvPicPr/>
          <p:nvPr/>
        </p:nvPicPr>
        <p:blipFill>
          <a:blip r:embed="rId2"/>
          <a:stretch/>
        </p:blipFill>
        <p:spPr>
          <a:xfrm>
            <a:off x="7667640" y="3645000"/>
            <a:ext cx="936720" cy="93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7" descr="eneagono"/>
          <p:cNvPicPr/>
          <p:nvPr/>
        </p:nvPicPr>
        <p:blipFill>
          <a:blip r:embed="rId3"/>
          <a:stretch/>
        </p:blipFill>
        <p:spPr>
          <a:xfrm>
            <a:off x="7667640" y="5013360"/>
            <a:ext cx="10810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ngulos Interiores y Exteriores de un Polígo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9640" y="907920"/>
            <a:ext cx="7931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cada vértice es posible encontrar un ángulo interior y un ángulo ext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suma de un ángulo interior con un ángulo exterior dará exactamente 180º, por lo tanto estos dos ángulos forman un ángulo suplemen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68360" y="278136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angulo_suplementario"/>
          <p:cNvPicPr/>
          <p:nvPr/>
        </p:nvPicPr>
        <p:blipFill>
          <a:blip r:embed="rId1"/>
          <a:stretch/>
        </p:blipFill>
        <p:spPr>
          <a:xfrm>
            <a:off x="324000" y="4005360"/>
            <a:ext cx="3384360" cy="17557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611280" y="3645000"/>
            <a:ext cx="26654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 Adyactente Suplementari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468360" y="580536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= 180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8"/>
          <p:cNvSpPr txBox="1"/>
          <p:nvPr/>
        </p:nvSpPr>
        <p:spPr>
          <a:xfrm>
            <a:off x="611280" y="6237360"/>
            <a:ext cx="26654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En su conjunto forman un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ángulo extendid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6300720" y="2924280"/>
            <a:ext cx="2519280" cy="252072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0"/>
          <p:cNvSpPr/>
          <p:nvPr/>
        </p:nvSpPr>
        <p:spPr>
          <a:xfrm>
            <a:off x="6588000" y="4797360"/>
            <a:ext cx="576360" cy="180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11"/>
          <p:cNvSpPr/>
          <p:nvPr/>
        </p:nvSpPr>
        <p:spPr>
          <a:xfrm>
            <a:off x="6732720" y="5159520"/>
            <a:ext cx="360360" cy="549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49000"/>
              <a:gd name="textAreaBottom" fmla="*/ 549360 h 549000"/>
            </a:gdLst>
            <a:ahLst/>
            <a:rect l="textAreaLeft" t="textAreaTop" r="textAreaRight" b="textAreaBottom"/>
            <a:pathLst>
              <a:path fill="none" w="21600" h="4131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0111"/>
                  <a:pt x="16601" y="37829"/>
                  <a:pt x="8833" y="41310"/>
                </a:cubicBezTo>
              </a:path>
              <a:path stroke="0" w="21600" h="41311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30111"/>
                  <a:pt x="16601" y="37829"/>
                  <a:pt x="8833" y="4131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 flipH="1">
            <a:off x="7019640" y="4437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7236000" y="386064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7740720" y="5734080"/>
            <a:ext cx="1008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Ángu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Exter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5"/>
          <p:cNvSpPr/>
          <p:nvPr/>
        </p:nvSpPr>
        <p:spPr>
          <a:xfrm flipH="1" flipV="1">
            <a:off x="7164360" y="5660640"/>
            <a:ext cx="72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6156360" y="4797360"/>
            <a:ext cx="1224000" cy="122400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7"/>
          <p:cNvSpPr/>
          <p:nvPr/>
        </p:nvSpPr>
        <p:spPr>
          <a:xfrm>
            <a:off x="4427640" y="3573360"/>
            <a:ext cx="151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Ambos ángulos forman un ángulo extendido o de 180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8"/>
          <p:cNvSpPr/>
          <p:nvPr/>
        </p:nvSpPr>
        <p:spPr>
          <a:xfrm>
            <a:off x="5435640" y="458136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7"/>
          <p:cNvSpPr/>
          <p:nvPr/>
        </p:nvSpPr>
        <p:spPr>
          <a:xfrm>
            <a:off x="1979640" y="1773360"/>
            <a:ext cx="6769080" cy="23032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Es preciso recordar q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ara dibujar polígonos en el Lenguaje Logo, la Tortuga debe girar los grados del ángul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Recuerda que el ángulo interior más el ángulo exterior deben sumar 180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>
            <a:off x="1332000" y="692280"/>
            <a:ext cx="5543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¡¡¡Importante!!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15" name="Picture 6" descr="turtle-logo"/>
          <p:cNvPicPr/>
          <p:nvPr/>
        </p:nvPicPr>
        <p:blipFill>
          <a:blip r:embed="rId1"/>
          <a:stretch/>
        </p:blipFill>
        <p:spPr>
          <a:xfrm>
            <a:off x="611280" y="3357720"/>
            <a:ext cx="277344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ine 5"/>
          <p:cNvSpPr/>
          <p:nvPr/>
        </p:nvSpPr>
        <p:spPr>
          <a:xfrm flipH="1">
            <a:off x="320364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6"/>
          <p:cNvSpPr/>
          <p:nvPr/>
        </p:nvSpPr>
        <p:spPr>
          <a:xfrm flipV="1">
            <a:off x="4356000" y="1988640"/>
            <a:ext cx="0" cy="381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284720" y="3141720"/>
            <a:ext cx="388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7093080" y="3141720"/>
            <a:ext cx="0" cy="345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calculo para los ángulos de giro de la Tortuga 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0"/>
          <p:cNvSpPr/>
          <p:nvPr/>
        </p:nvSpPr>
        <p:spPr>
          <a:xfrm>
            <a:off x="3780000" y="5805360"/>
            <a:ext cx="1008000" cy="432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WordArt 11"/>
          <p:cNvSpPr txBox="1"/>
          <p:nvPr/>
        </p:nvSpPr>
        <p:spPr>
          <a:xfrm>
            <a:off x="3780000" y="1484280"/>
            <a:ext cx="1292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Rumb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4716360" y="2492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7596360" y="3357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6084720" y="6093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395280" y="2565360"/>
            <a:ext cx="288144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ociendo los ángulos interiores de un polígono (en este caso todos miden 90º). Determina la medida de los ángulos exteriores denomin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γ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4356000" y="3141720"/>
            <a:ext cx="2735280" cy="26636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rc 17"/>
          <p:cNvSpPr/>
          <p:nvPr/>
        </p:nvSpPr>
        <p:spPr>
          <a:xfrm flipV="1">
            <a:off x="4356000" y="3141720"/>
            <a:ext cx="287280" cy="287280"/>
          </a:xfrm>
          <a:custGeom>
            <a:avLst/>
            <a:gdLst>
              <a:gd name="textAreaLeft" fmla="*/ 0 w 287280"/>
              <a:gd name="textAreaRight" fmla="*/ 287640 w 287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rc 18"/>
          <p:cNvSpPr/>
          <p:nvPr/>
        </p:nvSpPr>
        <p:spPr>
          <a:xfrm>
            <a:off x="4356000" y="5589720"/>
            <a:ext cx="216000" cy="215640"/>
          </a:xfrm>
          <a:custGeom>
            <a:avLst/>
            <a:gdLst>
              <a:gd name="textAreaLeft" fmla="*/ 0 w 216000"/>
              <a:gd name="textAreaRight" fmla="*/ 21636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rc 19"/>
          <p:cNvSpPr/>
          <p:nvPr/>
        </p:nvSpPr>
        <p:spPr>
          <a:xfrm flipH="1">
            <a:off x="6877080" y="5589720"/>
            <a:ext cx="216000" cy="215640"/>
          </a:xfrm>
          <a:custGeom>
            <a:avLst/>
            <a:gdLst>
              <a:gd name="textAreaLeft" fmla="*/ 360 w 216000"/>
              <a:gd name="textAreaRight" fmla="*/ 216720 w 21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20"/>
          <p:cNvSpPr/>
          <p:nvPr/>
        </p:nvSpPr>
        <p:spPr>
          <a:xfrm flipH="1" flipV="1">
            <a:off x="6877080" y="3141720"/>
            <a:ext cx="216000" cy="216000"/>
          </a:xfrm>
          <a:custGeom>
            <a:avLst/>
            <a:gdLst>
              <a:gd name="textAreaLeft" fmla="*/ 360 w 216000"/>
              <a:gd name="textAreaRight" fmla="*/ 216720 w 216000"/>
              <a:gd name="textAreaTop" fmla="*/ 360 h 216000"/>
              <a:gd name="textAreaBottom" fmla="*/ 216720 h 216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1"/>
          <p:cNvSpPr/>
          <p:nvPr/>
        </p:nvSpPr>
        <p:spPr>
          <a:xfrm>
            <a:off x="3203640" y="5013360"/>
            <a:ext cx="71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22"/>
          <p:cNvSpPr/>
          <p:nvPr/>
        </p:nvSpPr>
        <p:spPr>
          <a:xfrm>
            <a:off x="4356000" y="2708280"/>
            <a:ext cx="503280" cy="433440"/>
          </a:xfrm>
          <a:custGeom>
            <a:avLst/>
            <a:gdLst>
              <a:gd name="textAreaLeft" fmla="*/ 0 w 503280"/>
              <a:gd name="textAreaRight" fmla="*/ 503640 w 50328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rc 23"/>
          <p:cNvSpPr/>
          <p:nvPr/>
        </p:nvSpPr>
        <p:spPr>
          <a:xfrm flipV="1">
            <a:off x="7093080" y="3141000"/>
            <a:ext cx="574560" cy="576360"/>
          </a:xfrm>
          <a:custGeom>
            <a:avLst/>
            <a:gdLst>
              <a:gd name="textAreaLeft" fmla="*/ 0 w 574560"/>
              <a:gd name="textAreaRight" fmla="*/ 574920 w 574560"/>
              <a:gd name="textAreaTop" fmla="*/ -360 h 576360"/>
              <a:gd name="textAreaBottom" fmla="*/ 576360 h 576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rc 24"/>
          <p:cNvSpPr/>
          <p:nvPr/>
        </p:nvSpPr>
        <p:spPr>
          <a:xfrm flipH="1" flipV="1">
            <a:off x="6516000" y="5804640"/>
            <a:ext cx="576360" cy="360360"/>
          </a:xfrm>
          <a:custGeom>
            <a:avLst/>
            <a:gdLst>
              <a:gd name="textAreaLeft" fmla="*/ -360 w 576360"/>
              <a:gd name="textAreaRight" fmla="*/ 576360 w 576360"/>
              <a:gd name="textAreaTop" fmla="*/ -360 h 360360"/>
              <a:gd name="textAreaBottom" fmla="*/ 360360 h 36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rc 25"/>
          <p:cNvSpPr/>
          <p:nvPr/>
        </p:nvSpPr>
        <p:spPr>
          <a:xfrm flipH="1">
            <a:off x="3635280" y="5084640"/>
            <a:ext cx="720720" cy="720720"/>
          </a:xfrm>
          <a:custGeom>
            <a:avLst/>
            <a:gdLst>
              <a:gd name="textAreaLeft" fmla="*/ 360 w 720720"/>
              <a:gd name="textAreaRight" fmla="*/ 72144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4356000" y="5300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427640" y="3357720"/>
            <a:ext cx="71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6300720" y="328464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6443640" y="5373720"/>
            <a:ext cx="7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90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WordArt 30"/>
          <p:cNvSpPr txBox="1"/>
          <p:nvPr/>
        </p:nvSpPr>
        <p:spPr>
          <a:xfrm>
            <a:off x="3851280" y="6426360"/>
            <a:ext cx="93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ortug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23:13:32Z</dcterms:created>
  <dc:creator>cliente preferencial</dc:creator>
  <dc:description/>
  <dc:language>en-US</dc:language>
  <cp:lastModifiedBy>eduardo pedro paredes barrios</cp:lastModifiedBy>
  <dcterms:modified xsi:type="dcterms:W3CDTF">2014-03-04T01:34:48Z</dcterms:modified>
  <cp:revision>55</cp:revision>
  <dc:subject/>
  <dc:title>Conociendo la Tortuga del Lenguaje Logo</dc:title>
</cp:coreProperties>
</file>